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EBC6C-83FD-4640-AEFE-BE3A36661F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0F29-9FF1-401D-A949-CE93024A7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0FAD-7B01-445A-A7DF-CA780109F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0BB4-3680-4B17-BA4E-F9620C7FA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E506-253F-4135-8571-F846F571F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F46BC-2A1C-47A0-BBFA-77A2C28CF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9DB8D-C3AE-4AC1-89E1-5A17A3804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34DDB-6317-4026-B37D-85B8E5A5A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B4FEB-9B38-4D6D-97A2-8E373768D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D28BA-9E4E-4251-A487-E55C749AE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B9ABA-2EFE-4EF0-8608-0FFC14BEA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7DDA5-6561-4596-AA8F-1069C281D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327B-6995-4817-B703-F7924BC1C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980AD-9113-4A46-A638-8CD3E9E5D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3EA62-79BA-4CEA-B171-CAEEA33D6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12DCF-8793-4079-85E4-A54364359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B593B-1C0A-4A4D-9E0F-76A173319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083F6-1B38-4274-B72E-F719BB918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44E4-38B3-4412-A334-B7529BEB5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D498-E4AF-46A5-9530-6F7972FBB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CC17-0BE1-42F4-97D8-BAB542CC5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B15E-9C53-41DD-8A19-8A8261E6A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FEB4-CEDF-4F64-A976-4EBE1D90B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40B5-CA3B-456E-99A5-B061F615D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DB03-5432-4401-88FE-59A210B24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BDBBA-257F-4921-8D9C-683A2ABD15D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DCBD6-311A-4DB5-AA8C-E260811838E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560" y="234936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TECHNICAL &amp; SAFETY COMMITTEE</a:t>
            </a: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116000" y="4292280"/>
            <a:ext cx="7848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ternational Parachuting Commissio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588000" y="260280"/>
            <a:ext cx="208764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59054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IE" sz="4800" spc="-1" strike="noStrike">
                <a:solidFill>
                  <a:srgbClr val="eaeaea"/>
                </a:solidFill>
                <a:latin typeface="Arial"/>
              </a:rPr>
              <a:t>2005 Safety Report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74760" y="1916280"/>
            <a:ext cx="692928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6 countries supplied da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6,147,351 skydives were made b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806,515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64 people were killed skydiv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96,052 jumps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12,602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236000" y="404640"/>
            <a:ext cx="169200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eaeaea"/>
                </a:solidFill>
                <a:latin typeface="Arial"/>
              </a:rPr>
              <a:t>64 Fatalities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5 Studen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23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9 Intermed.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30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0 Exper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47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6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4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6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093080" y="404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51609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‘</a:t>
            </a: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Other’ Fatalities (44)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4232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edical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with aircraf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ain/reserve entanglemen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utaway from canopy 30m. over water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ntanglement with Skyboard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AAD fire after fast, low turns.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4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971640" y="549360"/>
            <a:ext cx="172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16436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58816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Fatalities – </a:t>
            </a:r>
            <a:br>
              <a:rPr sz="3600"/>
            </a:b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Largest Group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58560" y="2133720"/>
            <a:ext cx="707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0% (13) Landing Err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7% (11) Fast canop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6%  (10) Low cutaway of 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m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808200" y="1012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5666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Some Significant Figure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2060280"/>
            <a:ext cx="7336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34 of the 64 fatalities (53%) (30 fatalities were excluded for this statistic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41% - 26 of 64 fatalities,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6% - 10 of the 64 fatalities might have been avoided by AAD u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84% - 54 of the 64 fatalities,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3 of the 64 Fatalities were First Jump Stud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55929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Some Trends &amp; Issue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71640" y="2060280"/>
            <a:ext cx="741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High numbers of fatalities resulting from landing and handling canop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Use of AAD shows in relatively low figure for number of jumpers who might have been saved by the use of an A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No/low pull on main, cutaway and no/low reserve pull accounted for almost one-third of fatalities in 2005 – AAD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5666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eaeaea"/>
                </a:solidFill>
                <a:latin typeface="Tahoma"/>
              </a:rPr>
              <a:t>Tandem - Solo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s 10.4% against all Solo jumps  in 200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,565,870 Solo jumps – 581,000 Tande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s ratio to other types of First Jump 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o Static Line and IAD/JAD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5:  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o AFF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5:  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o S/L, IAD/JAD, AFF combined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5:1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andem Fatalities 2 (3%)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Solo Fatalities 62 (97%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1066320" y="1915920"/>
            <a:ext cx="7543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is report, along with 2005 AAD Report, and Power Point presentations for both reports, has been sent by e-mail to all respondents and to all other countries for which we have e-mail addresses.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e CDs have the following contents –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AAD Report Power Point Present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6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6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6 For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ose countries who did not report for 2005 are earnestly requested to make a special effort to do so for 2006.  The compilation of data is to the benefit of the country gathering same, not just to IPC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164360" y="333360"/>
            <a:ext cx="1655640" cy="10796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258920" y="620640"/>
            <a:ext cx="54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 and Appe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 </cp:lastModifiedBy>
  <dcterms:modified xsi:type="dcterms:W3CDTF">2007-01-12T16:53:10Z</dcterms:modified>
  <cp:revision>40</cp:revision>
  <dc:subject/>
  <dc:title>SAFETY &amp; TRAINING FORUM 25 January 2003</dc:title>
</cp:coreProperties>
</file>