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E978-55D2-4103-9EF0-F2E231917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BB75-D0F8-4258-83BC-6F710A3756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6CE0-8001-4E28-8655-D449806D7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230E-A63D-4158-AC16-2B1B22BD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D3D2-4F8B-48FF-B130-D27665743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3C7E-3401-493A-BC88-D8E284FD4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D12E-D51B-47CE-B10B-5E34C0D08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053A-12CA-4C37-A7E2-3BE68D4B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D103-8126-4C57-92F1-93349734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9D18-CF21-48B7-8476-3CAAEE74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8DFC-BE30-4C4D-9BE9-7DED029E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4D5B-46F2-41F2-83A5-29FB1D21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8219-8C1F-4011-91D3-B68EB374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214F-E102-42E0-BAF3-92FD9A06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E382-D2D1-45DA-91B9-D09F72C0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B250-EA91-4EBD-B410-19EB5CFB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AE6F-3CC8-49FE-846E-B74DD1F9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CD61-89C8-4070-9BF6-5B21A7C2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FACE-AF42-47B3-869A-BF40C4A84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30F9-38C1-475B-B0B6-5BC395D4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CFB3-B740-480D-BE2E-BBE39B17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2F77-B0A9-4D0D-AE9F-AAF4F963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C355-CB9E-4B62-B8E3-5D79EB50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D59F-A23C-4BEA-90F9-6A5BEEA9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9276-7FAD-48BA-A007-3EB4CCF5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F7A9-05BC-4702-A090-FADA11BE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AB07-9886-4412-8B35-5A71DD193A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7B52-EDE4-4E6C-85A5-C31E8D7117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0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420,087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164,200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6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97,274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7,639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66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32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47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71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8176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 - 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s/Entanglements after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/no cutaway, Spiralled to ground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logo_ipc_01_trait copie"/>
          <p:cNvPicPr/>
          <p:nvPr/>
        </p:nvPicPr>
        <p:blipFill>
          <a:blip r:embed="rId8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777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 - 23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/Intent. 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 - 20% of 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s/Entanglements           11 – 17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These  39 of the 66 fatalities - (59%) were                      canopy handl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6 fatalities (67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66 fatalities (59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6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9 of the 66 fatalities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4 (6%) of the  66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   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ere were no were Tandem fatalities  in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9 – 59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Over a ten-year period there has been an irregular decrease in the percentages of fatalities among Student and Intermediate jumpers and an irregular increase in the percentage of fatalities with Expert jump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 15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2009 – 13.5%; 2008 - 12.1%; 2007 - 9.6%; 2006 – 12.2%; 2005 – 10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5,452,158 Solo jumps –  967,929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6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All 2010 fatalities were Solo jump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logo_ipc_01_trait copie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483920"/>
            <a:ext cx="7543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10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1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7) issued in 2011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Learning from the Mistakes of Other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, Skydive Arizona  Accident review 1991 –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by Bryan Burke, S&amp;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0 are requested to make a special effort to do so for 2011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11-04T20:16:36Z</dcterms:modified>
  <cp:revision>80</cp:revision>
  <dc:subject/>
  <dc:title>SAFETY &amp; TRAINING FORUM 25 January 2003</dc:title>
</cp:coreProperties>
</file>