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BFC0-38B1-4A88-B65E-74542A7E2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0836-4D8C-4762-8340-D7CA0234D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E1DA-3C13-4786-9F8E-D4E558F2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D77A-DD91-4360-9286-05ACF3475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CC53-89D2-4DC8-80E9-148639D1B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CBBF-BA6B-4B5E-ADEC-9F97BEF8F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CB40-277C-4E0B-82C2-5BA8CAD9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7F34-74A4-499A-99A7-9824E456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6FFB-5206-4ED5-A596-750600E0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E345-3017-4BFE-8E25-8F1850B1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2FA7-714B-4339-889A-C1A9F193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BF36-CBBF-42AB-9CF4-5DD14716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D20A-DFF5-4FCD-85E1-45D5D5D8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8A00-3EAF-4B0A-8F25-8B113DFA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2AED-12C6-49B8-8737-0B4F8A68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4633-03CB-4545-AF55-2FFA0DDC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8CD3-4DB5-4213-9A49-70DB1A4DA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1732-C168-49C2-BFFB-5D9677B39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856F-27FA-4B91-9EE7-6F7267ED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A440-7DE3-428B-9141-AE9D4C3C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77BD-650B-41C8-B306-25C597C8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335C-F06A-41C9-9C0F-02444329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EBC0-254C-4287-985B-4919B601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713F-5722-43EF-B397-65E78B98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B4A2-746D-46E4-A690-22725CF8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10E4-B6F3-45E5-AC4A-4DA63A653F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6B92-30F4-4AAC-98C7-3D77D58BEB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4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55640" y="54936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2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7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230,563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059,937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3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8,690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9,999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3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1640" y="1196640"/>
            <a:ext cx="7423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Unexplained jumper incapacity, main deployed, no inpu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edical Condition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malfunction, no action, spiralled to ground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utaway handle pulled, main released, no reserve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, after AAD fire at fast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 after cutaway,  3-ring trapped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AFF Jump, student limp in harness at 300m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utaway by student at 50m, too low for reserv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spirals to ground, jumper may have been incapacitated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lag jump, flag escaped and obscured handles, no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Reserve opened incorrectly due to unstable posit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Landed in tree, killed during rescu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anopy malfunction on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Total 4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1"/>
          <a:stretch/>
        </p:blipFill>
        <p:spPr>
          <a:xfrm>
            <a:off x="6948360" y="18900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353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0 – 1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 6 – 11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Main Canopy  Activation 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Cutaway &amp; Reserve Activ.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22 of the 53 fatalities (42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53 fatalities (19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%) appear to have been caused by human error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5 (9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3 ( 5.7%) of the 53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here was a very wide range of causes of fatalities in 2012, but the underlying factor appears to have been non-adherence to standard and fundamental pract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19 – 36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4,276,101 Solo jumps – 954,462 Tand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.2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Solo Jumps - 22.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he ratio of Tandem to all jumps and to solo jumps is steadily increasing since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3 (5.7%)       Solo Fatalities 50 (94.3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000"/>
            <a:ext cx="7543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Power Point presentation and the full 2012 Safety Report, have been sent by e-mail to all respondents and to all other countries for which there are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5) issued in 2013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2 are requested to make a special effort to do so for 2013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14-01-22T19:15:56Z</dcterms:modified>
  <cp:revision>66</cp:revision>
  <dc:subject/>
  <dc:title>SAFETY &amp; TRAINING FORUM 25 January 2003</dc:title>
</cp:coreProperties>
</file>