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39451-2DB3-4274-B9E9-D05D055B4E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27D2C-BC32-47DE-B958-E68C626B6B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6994-49D1-42AF-BFF2-06406AFEA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B971-02E5-48B5-8865-5C35EDCDE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A6E3-E48A-43A0-B953-2F5A85204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5C21-73A7-4742-BB00-938BB9AE2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E0441-6725-4BA9-8DB4-CE0A0A57C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35FDE-57C5-4B11-8A3C-D1BB4DC47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0EFD0-7290-4D34-B1DE-2E76E16A8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AB073-480F-4AF8-A769-7BE504E36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99BB5-DD9A-4A8A-BBE9-C72827CB6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E6196-5AB9-4FEB-85E7-B784AB83D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6311F-E690-4EC0-BACC-5C1CAFA03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CECD-DC02-4BCF-8620-CBDF2E782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EE467-77E3-4DC5-90DB-C1A4DEC8A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95EC5-10BF-4CE4-8375-54BC230C7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8B28F-865C-47B0-873B-4EAFF19D1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9D7A9-8448-48AB-9170-417D33326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3C6B9-0B20-4559-B357-184560E1F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927B-DAB5-40E9-83C6-C12A7BD41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C7BF-5B32-4BBE-9B72-70BFC81DC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55D9-A5B4-42E9-9B1A-9F44B38CB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3732-04BD-4C93-95AB-6C008DD34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0411-4DCB-4D75-8346-0C58754F3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CC1C-9FDE-4A52-8F62-7BC5F272C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83A6-1DA3-4BD7-9258-E4B06639A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0D79D-9ABE-4DD1-9CCF-F6906A7DF089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82871-6346-4C9D-9B90-8B5F45251FEC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Rectangle 2" descr=""/>
          <p:cNvPicPr/>
          <p:nvPr/>
        </p:nvPicPr>
        <p:blipFill>
          <a:blip r:embed="rId1"/>
          <a:stretch/>
        </p:blipFill>
        <p:spPr>
          <a:xfrm>
            <a:off x="822240" y="1841400"/>
            <a:ext cx="8407440" cy="195588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619280" y="3499920"/>
            <a:ext cx="7345440" cy="1584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83763"/>
                </a:solidFill>
                <a:latin typeface="Arial Unicode MS"/>
              </a:rPr>
              <a:t>International Skydiving Commission, FAI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83763"/>
                </a:solidFill>
                <a:latin typeface="Arial Unicode MS"/>
              </a:rPr>
              <a:t>Safety Report 2019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https://gallery.mailchimp.com/3f9c3d1fbda98e709fb819a78/images/020fe80e-dcce-4c88-b3f0-65c696acaf2f.jpg"/>
          <p:cNvPicPr/>
          <p:nvPr/>
        </p:nvPicPr>
        <p:blipFill>
          <a:blip r:embed="rId2"/>
          <a:stretch/>
        </p:blipFill>
        <p:spPr>
          <a:xfrm>
            <a:off x="6156360" y="765000"/>
            <a:ext cx="1760400" cy="10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0560" y="704880"/>
            <a:ext cx="871380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E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899640" y="1557360"/>
            <a:ext cx="7543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anks are extended to all who sent data for this 2019 Safety Report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is Report, along with the Power Point presentation, and material listed below, has been sent by e-mail to all respondents and to all other countries for which the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&amp;S Committee has e-mail addresses, and by e-mail to all ISC Delegate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9Safety Survey Report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9 Safety Survey Report Power Point Presentation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20 Form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20 Notes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Parachuting Aircraft Incidents/Accidents Report 2020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PPEAL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ose countries who did not report for 2019 are requested to do so for 2020.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e compilation of data is to the benefit of the country gathering the data,  and to the worldwide skydiving community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Text Box 10"/>
          <p:cNvSpPr/>
          <p:nvPr/>
        </p:nvSpPr>
        <p:spPr>
          <a:xfrm>
            <a:off x="539640" y="765000"/>
            <a:ext cx="66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83763"/>
                </a:solidFill>
                <a:latin typeface="Arial Unicode MS"/>
                <a:ea typeface="Arial Unicode MS"/>
              </a:rPr>
              <a:t>Thanks &amp; Report Distrib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7308720" y="620640"/>
            <a:ext cx="147168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Title 1" descr=""/>
          <p:cNvPicPr/>
          <p:nvPr/>
        </p:nvPicPr>
        <p:blipFill>
          <a:blip r:embed="rId1"/>
          <a:stretch/>
        </p:blipFill>
        <p:spPr>
          <a:xfrm>
            <a:off x="73080" y="469800"/>
            <a:ext cx="8620200" cy="114624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68000" y="2133360"/>
            <a:ext cx="8280360" cy="3816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46 countries responded, from a possible 82, a response rate of 56%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The response rate was higher than in previous years but still remains at about this level for the 33 years of the Safety Survey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Countries are encouraged to put in place systems for the collection of safety data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Such data is invaluable  - for use by parachuting organisations, dropzones, those involved in the areas of technical and safety matters, and when dealing with authoriti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08" name="Picture 6" descr="https://gallery.mailchimp.com/3f9c3d1fbda98e709fb819a78/images/020fe80e-dcce-4c88-b3f0-65c696acaf2f.jpg"/>
          <p:cNvPicPr/>
          <p:nvPr/>
        </p:nvPicPr>
        <p:blipFill>
          <a:blip r:embed="rId2"/>
          <a:stretch/>
        </p:blipFill>
        <p:spPr>
          <a:xfrm>
            <a:off x="6516720" y="620640"/>
            <a:ext cx="1511280" cy="10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2019 Safety Report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69296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46 countries supplied dat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6,886,653 skydives were made b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1,534,538 jumpe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44 people were killed skydiv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these figures include Tandems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 Fatality per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56, 515 Jumps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34,876 Jump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1" name="Picture 6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588000" y="620640"/>
            <a:ext cx="1440000" cy="97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Fataliti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9912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8 Students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(18%)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0-25 Freefal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 Intermediate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(11%)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6-250 Freefal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1 Expert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(70%)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51 + Freefal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- 4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No pull/low pull on main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9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ther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 -</a:t>
            </a: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	</a:t>
            </a: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648320" y="159984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443640" y="620640"/>
            <a:ext cx="1655640" cy="101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‘</a:t>
            </a: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Other’ Fatalities (34)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99640" y="1628280"/>
            <a:ext cx="7417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Other Landing Error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Intentional Fast Landing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6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Tandem Fataliti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Hard Opening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3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Canopy Collision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3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Freefall Collision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2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Main entangled with body, cutaway &amp; reserv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entanglement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2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Drowning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2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Premature deployment in aircraft door                               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Severe opening and twists to landing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Medical                                                              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Landed spinning main, no cutaway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Assumed main activation, but no cutaway or reserve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Unstable cutaway, reserve bridle caught, insufficient                 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drag to deploy reserve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Spinning under reserve                                                        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700" spc="-1" strike="noStrike" u="sng">
                <a:solidFill>
                  <a:srgbClr val="000000"/>
                </a:solidFill>
                <a:uFillTx/>
                <a:latin typeface="Arial Unicode MS"/>
              </a:rPr>
              <a:t>Total  39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9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20640"/>
            <a:ext cx="1584360" cy="97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Fatalities – Largest Group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99128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ther Landing Errors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10 – 26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Intentional Fast Landing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6 – 15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utaway and no reserve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5 – 11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 Unicode MS"/>
              </a:rPr>
              <a:t>   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anopy handling issues, combined –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6 (36% of total fatalities, 44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2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20640"/>
            <a:ext cx="1584360" cy="9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42920" y="417600"/>
            <a:ext cx="574992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Significant Figur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800244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43080" algn="ctr">
              <a:lnSpc>
                <a:spcPct val="80000"/>
              </a:lnSpc>
              <a:spcBef>
                <a:spcPts val="649"/>
              </a:spcBef>
              <a:buClr>
                <a:srgbClr val="e2d700"/>
              </a:buClr>
              <a:buSzPct val="8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000000"/>
                </a:solidFill>
                <a:latin typeface="Arial Unicode MS"/>
              </a:rPr>
              <a:t>OF THE 44 FATALITI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35 (80%) appear to have occurred with the parachutist having at least one good parachute on his/her back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28 (64%) occurred after the successful deployment of the main parachut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AAD would not have prevented any of the fatalitie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35 (80%) appear to have been caused by human error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000000"/>
                </a:solidFill>
                <a:latin typeface="Arial Unicode MS"/>
              </a:rPr>
              <a:t>                </a:t>
            </a: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 Unicode MS"/>
              </a:rPr>
              <a:t>Three of the 2019 fatalities were First Jump Students</a:t>
            </a:r>
            <a:r>
              <a:rPr b="1" i="1" lang="en-IE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5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20640"/>
            <a:ext cx="1761840" cy="10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71640" y="691920"/>
            <a:ext cx="5904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Some Trends &amp; Issu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71640" y="1990800"/>
            <a:ext cx="741672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ontinuing high percentage of fatalities resulting from canopy handling, canopy control, and landing issu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Roughly similar percentage distribution of fatalities between Student/Intermediate/Expert as in previous years .  The category ‘Expert Skydiver’ continues to have the most fatalities, but it has the biggest numbers of jump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AAD and RSL are both now widely used, as all level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8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804000" y="692280"/>
            <a:ext cx="1584360" cy="97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71640" y="277560"/>
            <a:ext cx="56656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Tandem - Solo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9640" y="2276280"/>
            <a:ext cx="8229600" cy="237636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s 20% of </a:t>
            </a:r>
            <a:r>
              <a:rPr b="1" lang="en-IE" sz="2400" spc="-1" strike="noStrike" u="sng">
                <a:solidFill>
                  <a:srgbClr val="000000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jumps, Tandem + Sol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,523,452 Solo jumps – 1,363,201 Tande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 4; Solo Fatalities 40(44total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31" name="Picture 4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92280"/>
            <a:ext cx="1655640" cy="101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21-01-07T22:43:03Z</dcterms:modified>
  <cp:revision>144</cp:revision>
  <dc:subject/>
  <dc:title>SAFETY &amp; TRAINING FORUM 25 January 2003</dc:title>
</cp:coreProperties>
</file>