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4253-C6BE-465D-B65C-1713DB72B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DEA0-DDE7-4698-8B54-00E90395D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6357-9228-4BD2-BDEC-6242E03F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2DC3-049D-40D2-B78C-94075D87F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4946-8F98-424E-90CC-C1DFC84C1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1CCBB-BD3C-4F15-944D-3B051443E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3B618-1EDE-4DCC-BAAC-608AE5EF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66855-633B-4CA5-A6B0-E93C5ADF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2E110-9D9A-4F71-B3B1-7C51C0BA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56A80-266C-4FE9-9D74-3122A725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D3A91-1BD3-4A2A-ACD0-82BABAAD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A5675-9BEA-4AE5-BB4B-CF532C3A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04F6-CF24-42F4-AFEA-FDDA81F1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E6A57-D9EE-4C4D-813D-01490105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3B56A-D00C-4222-B5DE-08B007CC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C35C4-18E5-43D8-A9C1-07536819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9740B-A070-4453-8AF0-330E944B2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F62DF-437B-4713-8252-45818FBFC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ABF2-3BC5-4345-90C5-66B01788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4B6B-503C-44F3-8E28-F037A9E2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4270-C3E7-4209-B507-D1B0B7EF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DCB8-F4D9-4727-9DDF-8C01BD00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5968-B634-40C7-BE5A-E4C23B67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864C-8089-4526-B34A-3FF9D6E3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F059-F0EE-437A-8A7E-ACAFA6CE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9C19-2C1F-4320-A731-E35B552CB2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5299-453C-48EC-9B07-2969631FF2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2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3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3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5,769,010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357,15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9,028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893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400" spc="-1" strike="noStrike">
                <a:solidFill>
                  <a:srgbClr val="ffffff"/>
                </a:solidFill>
                <a:latin typeface="Arial"/>
              </a:rPr>
              <a:t>73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Interm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5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4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6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Other ‘ Fatalities (55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Other 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 walking into Propello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Aircraft crash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nknow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3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9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No or Low Activation of Main 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4% of 65 fatalities (8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60% of 65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3% of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0% of fatalities would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8 of the 73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eport, along with 2002 AAD Report, has been sent by e-mail to all respondents and to all other countries for which we have e-mail addresses.  Hard copies and CD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Som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4-12-21T22:32:57Z</dcterms:modified>
  <cp:revision>14</cp:revision>
  <dc:subject/>
  <dc:title>SAFETY &amp; TRAINING FORUM 25 January 2003</dc:title>
</cp:coreProperties>
</file>