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CB58-B558-4FB8-9CED-4DCA44A8E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8BC7-B5A2-4631-B002-42D98C25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B9AD-72D8-4CAD-B9BF-4FA82875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B398-06E4-4F95-9355-554A37A1D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C422-4062-4A45-913B-62D97209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911C-D726-4564-811F-39EF183E4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D413-B978-498F-AD4B-B68CDBD2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BFCA-593C-42C0-B723-8564729A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FF70-D95B-431D-AB3B-B0CED9F7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9A52-C4B5-4BA2-BE18-E62648EA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0D0E-BE67-4B0B-BE42-889C3691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3E42-9064-47C2-AB82-AEC7B3E2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407A-C0D8-46BC-89EF-AC0A14A7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B631-068F-48F9-A1C5-723700CD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9B03-C9E9-4CAA-B0A1-6B13074B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8DE1-72BE-4DC9-BDA3-B0C0D286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0B54-99F7-46D3-83A4-66AED5A3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6C34-45E6-476C-BE89-140B39CD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9E60-7FD9-4A79-A611-0204A8F2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9E60-D392-4902-B326-1089226C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50AC-0DCE-4679-8430-E4596408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F244-D570-4C00-94E7-79F106B1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ED3C-C805-4102-9FD8-83396050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629E-7BE8-4220-8D99-8CCAE29A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FEFE-06A9-4E2A-B22B-BAACD2EE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A405-9CFA-468E-B104-7D9C5AEB8FD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90C7-17BF-4652-81AA-B74DE634161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234936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6000" y="4292280"/>
            <a:ext cx="78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5905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2005 Safety Report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4760" y="1916280"/>
            <a:ext cx="69292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6 countries supplied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147,351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06,51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4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96,052 jumps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12,6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64 Fatalitie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3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0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47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160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Other’ Fatalities (44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423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with aircraf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from canopy 30m. over water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ment with Skyboar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AAD fire after fast, low turns.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881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Fatalities – </a:t>
            </a:r>
            <a:br>
              <a:rPr sz="3600"/>
            </a:b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Largest Group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707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0% (13)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11)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 (10) Low cutaway of 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Significant Figur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060280"/>
            <a:ext cx="7336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4 of the 64 fatalities (53%) (30 fatalities were exclud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% - 26 of 64 fatalities,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6% - 10 of the 64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84% - 54 of the 64 fatalities,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64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592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Trends &amp; Issu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41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almost one-third of fatalities in 2005 – AAD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aeaea"/>
                </a:solidFill>
                <a:latin typeface="Tahoma"/>
              </a:rPr>
              <a:t>Tandem - Sol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10.4% against all Solo jumps  in 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,565,870 Solo jumps – 581,000 Tand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 2 (3%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olo Fatalities 62 (97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66320" y="191592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5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contents –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6 For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ose countries who did not report for 2005 are earnestly requested to make a special effort to do so for 2006.  The compilation of data is to the benefit of the country gathering same, not just to IP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58920" y="620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 and Appe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07-01-12T16:53:10Z</dcterms:modified>
  <cp:revision>40</cp:revision>
  <dc:subject/>
  <dc:title>SAFETY &amp; TRAINING FORUM 25 January 2003</dc:title>
</cp:coreProperties>
</file>