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4A40-0C20-4B89-A216-9EEC76659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DD2B-EC89-45E7-84C8-6169E75D9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6EB3-98BA-4DE0-B3EB-A2391FA3C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4EE8-A942-4A1A-A353-24733480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CA01-9C54-4F5A-B6A0-122ED339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F29D-412E-4035-9366-6D164199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F5C0-C7CE-4D6B-BA66-85A80FC5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543E-06D0-429D-962B-8AF2E0E5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3629-B6A3-4FE4-9F58-6EC48C03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656D-0EDD-481C-BA43-B8CB53B2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72F4-BC7F-4B0A-8EB8-916B7930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7499-149E-416A-983E-53E032F7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38A4-421A-403D-BC1D-CC238294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F1E5-9782-48AE-AA67-3052F1B6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A90F-B21C-4BE5-B731-1F8F99E6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D463-287B-4088-AEB6-3B5CA453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AE9D-3914-47CE-AE40-6E04389D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DA36-AE75-4710-AACB-4ADD8B88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E3D3-DA12-48B1-BF28-9C76F9AC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EF23C-5653-467A-92C6-21EAD2B81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52989-6F25-4184-A7CA-ABD0D487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8A6BB-04B6-4E06-AE93-EDE695B5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2BC23-9B86-4D57-A596-B0CF2DC6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18305-87D8-4668-8989-FCB3F106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65C3-D407-402D-901E-0ECA4098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B0961-7886-47E2-A37D-AC17C150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B9267-D73E-48F9-A38A-0FC31C77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C2580-504D-4753-8CC3-DA2245E1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6EC5D-330F-4520-8120-CEDDE94F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CAF63-4285-4FF8-A08B-EB61C27E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95558-5D73-4EED-8F9E-1D3185E0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05708-CC7C-4D9A-98E0-278B1D6F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C643F-40C3-4BBE-8349-3B007419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05C12-2670-42DF-AEE1-32DEB85A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CFD20-EBFB-4472-83C5-282118C2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C068-D755-4EFF-9FA5-8EA55BC4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83CBE-2355-43C3-A95F-ECF4FD28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52710-F999-40B3-9EBF-64978B5E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5A218-8D63-45B5-8CCF-904E54BC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EC843-8CAB-4EFA-BB0A-EE00F5C5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02EC1-D8D3-4C15-9C30-72F0BFAF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EAF61-63B5-4E64-A000-A65D9494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C78D7-166A-48CD-9828-03C481B9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53699-9D8A-46CB-9D2E-A4FE22661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DC4F5-8EA1-4576-9C22-B08237416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9F6E-6B4F-49F0-9240-F3825235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6DE7-8B14-4DB2-82CF-CBB659B2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1354-DE7A-4F10-966B-FABEC4A9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523F-D4D6-4047-AC8F-2B2E5FDB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FC4A-4D15-4A9E-B9CC-60351934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A131-2121-4764-AA4C-9ADE9DCC123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4C47-5971-4ED0-966D-A3ACF09B5F4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5C78-A33B-463A-AFD0-77B056C0F0B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C430-A0DF-4094-9CDA-1D08775A43D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 (1) issued in 2017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7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6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7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40 countries responded, from a possible approximately 85, a response rate of 47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9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6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0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7,523,610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75,159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9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w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6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92,913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5,260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9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5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9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3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mera 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in Heavy Turbulence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ircraft Strik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is severe spin on back, unconscious -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AD fired, reserve had twis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eath due to 42g spin or ground impact under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6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- 21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8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13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5 (38% of total fatalities, 39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9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 (5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ne of the 2016 fatalities was a First Jump Student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5 (38% of 39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6.1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,313,878 Solo jumps – 1,209,732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2; Solo Fatalities 37 (39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01-21T17:01:29Z</dcterms:modified>
  <cp:revision>118</cp:revision>
  <dc:subject/>
  <dc:title>SAFETY &amp; TRAINING FORUM 25 January 2003</dc:title>
</cp:coreProperties>
</file>