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C438A-1E42-44C6-BEAB-C743B313D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C801C-6D95-4570-9B21-3EA55E2FB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44A43-3008-44ED-B7FF-67D650777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17761-98A6-4FB3-A8AD-100EC96EB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B9494-C9A7-4997-9173-EDCD1E245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1A500-2064-4102-AD14-04AE25B77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DEE6E-1072-4247-9684-8717E8418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A3308-A067-4A19-BE71-93E3EF546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A3146-9164-4095-9271-8D6F6611B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312FF-0080-4FFE-BEB4-254FC3386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C4E62-9513-48B0-B166-22C0FAF77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F5667-D192-452F-BF3A-3F469FFC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AEFF7-3E14-4B3F-81DA-20E491554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66366-1000-475F-BA45-56DEAAC2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427AD-D92A-4497-AB42-E9A03D1A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BF18A-B650-4D3E-869B-2B2A6FAB5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D84E7-1617-4BA1-B823-464575D5F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D575C-A708-4BA2-A9BD-3440FAABE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7CFF7-9E98-40BC-B9DD-587A2FB70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D8AA4-41B4-47C8-9F81-41F10272A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A31FB-3431-4B76-8B82-85693DA27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EEC98-748C-417C-A633-01B7CDCCB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2FB70-63AE-46CB-9DE9-A2D7ED9E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87117-AA1E-4B85-860D-23CA8716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0EBD0-0059-449C-A6C3-9A569CEF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6AC56-1E4F-4903-A1D8-9FD596958D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F526-0E40-4F7E-9BA2-6AEC53E2864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99640" y="4941720"/>
            <a:ext cx="75596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340000" y="1916280"/>
            <a:ext cx="4824360" cy="28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3200" spc="-1" strike="noStrike">
                <a:solidFill>
                  <a:srgbClr val="e5e5ff"/>
                </a:solidFill>
                <a:latin typeface="Garamond"/>
              </a:rPr>
              <a:t>                    </a:t>
            </a: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2004 Safety Repor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755964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9 countries supplied da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5,332,756 skydives were made b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493,250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53 people were killed skydiv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100,618 jumps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9,307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              </a:t>
            </a: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53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988640"/>
            <a:ext cx="8218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8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15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1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1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4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64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47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1692360" cy="10396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 ‘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Other’ Fatalities (47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8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9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uicid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during CF opening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ow cutaway &amp; Line twists on reserv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anopy collision during CF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Jumper unconscious before AAD fir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Hard landing under two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Jumper caught cutaway canopy which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ntangled with jumper’s own mai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Total 47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"/>
          <p:cNvSpPr/>
          <p:nvPr/>
        </p:nvSpPr>
        <p:spPr>
          <a:xfrm>
            <a:off x="971640" y="54936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Fatalities – Largest Group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79311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2% (17) Landing Erro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7% ( 9) Fast canop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3%  (7) Equipment proble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IE" sz="2800" spc="-1" strike="noStrike">
                <a:solidFill>
                  <a:srgbClr val="e5e5ff"/>
                </a:solidFill>
                <a:latin typeface="Garamond"/>
              </a:rPr>
              <a:t>                    </a:t>
            </a:r>
            <a:r>
              <a:rPr b="1" i="1" lang="en-IE" sz="4000" spc="-1" strike="noStrike">
                <a:solidFill>
                  <a:srgbClr val="e5e5ff"/>
                </a:solidFill>
                <a:latin typeface="Arial"/>
              </a:rPr>
              <a:t>Some Significant Figur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0024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66% of the 53 fatalities (18 were discounted for this statistic) occurred with the parachutist having at least one good parachute on his/her bac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1% - 27 of 53 fatalities, occurred after the successful deployment of the main parachut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1% - 6 of the 53 fatalities might have been avoided by AAD us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79% - 42 of the 53 fatalities, appear to have been caused by human erro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3 of the 53 Fatalities were First Jump Stud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   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Some Continuing Trend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7920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creased use of AAD shows in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Emphasis on good and thorough initial and ongoing training is probably the only way in which the big numbers of fatalities, especially from canopy handling/landing, may be reduc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1916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4 AAD Report, and Power Point presentations for both reports, has been sent by e-mail to all respondents and to all other countries for which we have e-mail addresses (72 in total)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e CDs have the following –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AAD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Visiting Jumper Requirements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Chart 2006 – with details of AADs on the market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Reserve Life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tudent Canopy Loading Guid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5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5 Not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5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16556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6-01-16T20:58:31Z</dcterms:modified>
  <cp:revision>33</cp:revision>
  <dc:subject/>
  <dc:title>SAFETY &amp; TRAINING FORUM 25 January 2003</dc:title>
</cp:coreProperties>
</file>