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31B9-87CF-403B-9109-858052853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0BFE-9999-4B81-80FF-ED1255619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2773-030B-4AB1-A034-89DFAE09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C789-3639-49BB-81CF-6591BAE97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BDEC-C306-4E0F-BDE0-CF11F32CD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A893-C087-4B18-A9EF-25844B7A1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941A-5C32-4124-9AD0-324FCFDD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7B96-600C-455C-8E91-259C5223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4B4C-C2FD-4B1F-B726-05D1F06E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475F-309D-4132-8C9C-CDCFF615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B7D6-15EE-4FAF-BDDE-4DFC4106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4E8E-93E6-453A-8547-48A65075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5E5B-7112-4065-8357-82EC8B80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0D38-461E-4DC6-A971-57138B31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8CC6-1759-4A74-8746-BED580F6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E726-E3F2-482D-AE27-31974768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89E4-E454-4BFB-A3EF-77D909CAF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D83F-5071-4349-A1EC-1C147F4E3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00E4-A39F-4172-8F2A-0052780D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3E8C-225D-4F0C-A128-A3E9AB2C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C8CE-540B-4DE2-B8FA-C07BDA33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F6C0-FD64-480B-A210-8D4FDCEF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6BD9-33B8-443A-9E6E-6EE6C7E8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EB94-A37F-48BA-9619-C2CC9FE6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8F6D-7B03-49FB-9A17-47CEF162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10C6-C50D-4130-B1C7-787B867FE7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E6BA-2FAE-4EFC-AF40-D91CB28014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5905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6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958,194 skydives were made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832,683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1 people were killed skyd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16,827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6,327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51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2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8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Other’ Fatalities (37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and bag-lock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lfunction of deploy. device, no reserve act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Rotation under canopy until impac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on opening (CF jump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 &amp; impact with build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772164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% (16) Fast Canop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8% (  9) No or Low Main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Ac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0% each ( 5 each) Other Landing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Errors and Equipment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7 of the 51 fatalities (73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1 of the 51 fatalities (41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0 of the 51 fatalities (20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 of the 51 fatalities (80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5 of the 51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51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27% of fatalities in 2006 – AAD may have reduced this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12.2% against all Solo jumps  in 2006 – 10.4% in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311,515 Solo jumps – 646,67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 2 (4%)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Solo Fatalities 49 (96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6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Protective Headwear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Bulletins (2) issued in 2007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7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06 are earnestly requested to make a special effort to do so for 2007.  The compilation of data is to the benefit of the country gathering same, not just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8-01-16T08:38:04Z</dcterms:modified>
  <cp:revision>48</cp:revision>
  <dc:subject/>
  <dc:title>SAFETY &amp; TRAINING FORUM 25 January 2003</dc:title>
</cp:coreProperties>
</file>