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0.jpeg" ContentType="image/jpeg"/>
  <Override PartName="/ppt/media/image5.png" ContentType="image/png"/>
  <Override PartName="/ppt/media/image16.jpeg" ContentType="image/jpeg"/>
  <Override PartName="/ppt/media/image15.jpeg" ContentType="image/jpe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27B20-6B8E-4385-9AD7-2C8B4B88C6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FBF5F-8FF1-4F62-BBB1-2410D76C2A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CB43F-B24C-46D7-A3FE-E97E8F522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9C69A-0A0A-4829-9049-3D0D18C14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60142-50E8-4024-A49B-71BD65EC7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10240-4472-488E-8663-84EA28D29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A7CC8-B498-48FE-9D11-CB300FBA0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B9E65-2AE1-4ADA-82ED-3A8A498A9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85249-0673-4063-8922-0FD31C2BA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FF9D3-7829-47D8-A306-C515983D4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6512A-CA59-41AD-8F8F-EBDB1E98E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FBEA4-E384-4308-BC26-84F4217B4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5D5AC-02BA-4D9D-AC54-40EC3EF91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C1E9E-BE71-4D7C-AFCF-6982D1B21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407BA-5E54-46DA-8AC3-C89ABC161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0036C-176C-4255-8DA6-1C14133CF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3601E-A40F-4349-98FC-FAE5645AC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BDC33-0FF5-47D1-A926-E38AA303A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DBF3A-5DE9-426B-95B6-8D68F2CC7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AC56F4-1D43-4EB7-970E-8A5C103D1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B3643D-40E0-4BA5-8550-0DC6FBCFE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A89D59-6164-4B39-A8CC-0FC017457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3F5323-9137-4BE2-8EEF-908A845C0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1B9F47-8191-4A1A-AC33-CEF3AE743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94D05-399C-4D14-9FD9-5D222085A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CBB25A-C16A-432F-8CDE-72DAC6B44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A6FD78-D288-4C1E-BFFE-DCAA95B7B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0B7871-F467-47A0-A7C7-23514E744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569B1D-B5EF-43E0-8104-115CC6D04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D1B320-D8AA-4E3A-9273-3DA0FFE16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08F3A5-6FBA-46C7-94C7-DB9FD763A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E443EE-F4D0-4FB2-AC6A-8876305EB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84D587-BD47-4CE8-8A08-55F6E4989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EBCDB5-150D-40BF-B5ED-E4B153D9C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C46104-AD04-4C50-8989-A6A8C14ED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ABE07-1C52-4353-852A-D806797D8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EF6680-78A3-4D5A-94A8-9DCB7FFD3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395A1D-E118-42B0-BAF4-8B1430BEF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E22EB5-25B1-42E1-8DA5-644C50B33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AA94CB-017E-428B-98BC-D04604FEF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2BD370-172E-4585-8364-0F7101CD4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D2069E-7BFA-40C6-80EC-4FE318731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F9732F-0262-4602-9479-7384DA377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C2A963-ED34-477D-AEC5-FE38D0FC0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94939B-CC80-46C4-86C5-7D75733A1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EE0B6-944A-4A24-9204-DD26814C7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9B4D3-911E-4466-A10F-CCD77E876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1DFBA-505F-449B-BDBE-E8F9EF354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298BC-9F9C-4DDF-9DAD-C0D068143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0BCC7-8BD1-4FB3-85A4-978CBDB3D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15C61-36A4-4502-AAD3-0147F5D6B59E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4F001-03B3-4613-AE1E-A1C35370898C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7A0EC-3E2B-496C-8B1C-151E23BE072C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08211-7024-4C3A-B53A-15F4A5F4C38B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Rectangle 2" descr=""/>
          <p:cNvPicPr/>
          <p:nvPr/>
        </p:nvPicPr>
        <p:blipFill>
          <a:blip r:embed="rId1"/>
          <a:stretch/>
        </p:blipFill>
        <p:spPr>
          <a:xfrm>
            <a:off x="822240" y="1841400"/>
            <a:ext cx="8407440" cy="195588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2484000" y="3499920"/>
            <a:ext cx="6480360" cy="15843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600" spc="-1" strike="noStrike">
                <a:solidFill>
                  <a:srgbClr val="ffffff"/>
                </a:solidFill>
                <a:latin typeface="Arial Unicode MS"/>
              </a:rPr>
              <a:t>International Parachuting Commission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600" spc="-1" strike="noStrike">
                <a:solidFill>
                  <a:srgbClr val="ffffff"/>
                </a:solidFill>
                <a:latin typeface="Arial Unicode MS"/>
              </a:rPr>
              <a:t>FAI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4" name="Text Box 4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logo_ipc_01_trait copie"/>
          <p:cNvPicPr/>
          <p:nvPr/>
        </p:nvPicPr>
        <p:blipFill>
          <a:blip r:embed="rId2"/>
          <a:stretch/>
        </p:blipFill>
        <p:spPr>
          <a:xfrm>
            <a:off x="6588000" y="476280"/>
            <a:ext cx="1729080" cy="107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8" descr="logo_ipc_01_trait copie"/>
          <p:cNvPicPr/>
          <p:nvPr/>
        </p:nvPicPr>
        <p:blipFill>
          <a:blip r:embed="rId1"/>
          <a:stretch/>
        </p:blipFill>
        <p:spPr>
          <a:xfrm>
            <a:off x="7451640" y="549360"/>
            <a:ext cx="1230480" cy="86364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 txBox="1"/>
          <p:nvPr/>
        </p:nvSpPr>
        <p:spPr>
          <a:xfrm>
            <a:off x="899640" y="1557360"/>
            <a:ext cx="75438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is Report, along with the Power Point presentation, and material listed below, has been sent by e-mail to all respondents and to all other countries for which the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&amp;S Committee has e-mail addresses, and by e-mail to all IPC Delegates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2016 Safety Survey Report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2016 Safety Survey Report Power Point Presentation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Safety Survey 2017 Form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Safety Survey 2017 Notes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Information Notice (1) issued in 2017 by the IPC’s Technical &amp; Safety Committee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Parachuting Aircraft Incidents/Accidents Report 2017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PPEAL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ose countries who did not report for 2016 are requested to make a special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effort to do so for 2017.  The compilation of data is to the benefit of the country gathering same,  and to the worldwide skydiving community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Text Box 10"/>
          <p:cNvSpPr/>
          <p:nvPr/>
        </p:nvSpPr>
        <p:spPr>
          <a:xfrm>
            <a:off x="1476360" y="76500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0000"/>
                </a:solidFill>
                <a:latin typeface="Tahoma"/>
              </a:rPr>
              <a:t>Distribution of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Title 1" descr=""/>
          <p:cNvPicPr/>
          <p:nvPr/>
        </p:nvPicPr>
        <p:blipFill>
          <a:blip r:embed="rId1"/>
          <a:stretch/>
        </p:blipFill>
        <p:spPr>
          <a:xfrm>
            <a:off x="450720" y="463680"/>
            <a:ext cx="8686800" cy="115704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468000" y="2133720"/>
            <a:ext cx="8280360" cy="345600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40 countries responded, from a possible approximately 85, a response rate of 47%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The response rate was similar to previous years and has been about this rate for the 29 years of the Safety Survey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Once again countries are encouraged to put in place systems for the collection of the type of data in this report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Such data is invaluable  - for use by parachuting organisations, dropzones, those involved in the areas of technical and safety matters, and when dealing with authorities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71640" y="479520"/>
            <a:ext cx="5905440" cy="699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300" spc="-1" strike="noStrike">
                <a:solidFill>
                  <a:srgbClr val="04617b"/>
                </a:solidFill>
                <a:latin typeface="Arial Unicode MS"/>
              </a:rPr>
              <a:t>2016 Safety Report</a:t>
            </a:r>
            <a:endParaRPr b="0" lang="en-US" sz="43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86920" y="1699920"/>
            <a:ext cx="692964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IE" sz="3200" spc="-1" strike="noStrike">
                <a:solidFill>
                  <a:srgbClr val="000000"/>
                </a:solidFill>
                <a:latin typeface="Arial"/>
                <a:ea typeface="Arial"/>
              </a:rPr>
              <a:t>40 countries supplied data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7,523,610 skydives were made by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1,375,159 jumper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39 people were killed skydiving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(these figures include Tandems; there were two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andem fatalitiy in 2016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1 Fatality per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192,913 Jumps   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35,260 Jumpe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0" name="Picture 4" descr="logo_ipc_01_trait copie"/>
          <p:cNvPicPr/>
          <p:nvPr/>
        </p:nvPicPr>
        <p:blipFill>
          <a:blip r:embed="rId1"/>
          <a:stretch/>
        </p:blipFill>
        <p:spPr>
          <a:xfrm>
            <a:off x="7164360" y="404640"/>
            <a:ext cx="1513080" cy="114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4608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04617b"/>
                </a:solidFill>
                <a:latin typeface="Arial Unicode MS"/>
              </a:rPr>
              <a:t>39 Fatalities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79912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5 Students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(13%)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0-25 Freefal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7 Intermediate   (18%)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26-250 Freefal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27 Experts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(69%)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251 + Freefal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60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Cutaway &amp; Low/No Reserve pull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2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No pull/low pull on main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1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Others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36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 39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3" name="Picture 7" descr="logo_ipc_01_trait copie"/>
          <p:cNvPicPr/>
          <p:nvPr/>
        </p:nvPicPr>
        <p:blipFill>
          <a:blip r:embed="rId1"/>
          <a:stretch/>
        </p:blipFill>
        <p:spPr>
          <a:xfrm>
            <a:off x="6732720" y="620640"/>
            <a:ext cx="1692000" cy="104004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6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64800" y="430200"/>
            <a:ext cx="544356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4617b"/>
                </a:solidFill>
                <a:latin typeface="Arial Unicode MS"/>
              </a:rPr>
              <a:t>‘</a:t>
            </a:r>
            <a:r>
              <a:rPr b="1" lang="en-IE" sz="3600" spc="-1" strike="noStrike">
                <a:solidFill>
                  <a:srgbClr val="04617b"/>
                </a:solidFill>
                <a:latin typeface="Arial Unicode MS"/>
              </a:rPr>
              <a:t>Other’ Fatalities (36)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99640" y="1628280"/>
            <a:ext cx="74170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Landing Error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Intentional Fast Landing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Freefall Collision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Equipment Related Issue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Incorrect Emergency Procedure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Tandem Fatalitie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Medical Issue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Camera Entanglement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Landing in Heavy Turbulence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Drowning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Aircraft Strike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Canopy Collision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Student is severe spin on back, unconscious -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AAD fired, reserve had twists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Death due to 42g spin or ground impact under reserve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700" spc="-1" strike="noStrike" u="sng">
                <a:solidFill>
                  <a:srgbClr val="000000"/>
                </a:solidFill>
                <a:uFillTx/>
                <a:latin typeface="Arial Unicode MS"/>
              </a:rPr>
              <a:t>Total  36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7" name="Picture 5" descr="logo_ipc_01_trait copie"/>
          <p:cNvPicPr/>
          <p:nvPr/>
        </p:nvPicPr>
        <p:blipFill>
          <a:blip r:embed="rId1"/>
          <a:stretch/>
        </p:blipFill>
        <p:spPr>
          <a:xfrm>
            <a:off x="7093080" y="549360"/>
            <a:ext cx="1511280" cy="92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15640" y="980640"/>
            <a:ext cx="5832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700" spc="-1" strike="noStrike">
                <a:solidFill>
                  <a:srgbClr val="04617b"/>
                </a:solidFill>
                <a:latin typeface="Arial Unicode MS"/>
              </a:rPr>
              <a:t>Fatalities – Largest Groups</a:t>
            </a:r>
            <a:endParaRPr b="0" lang="en-US" sz="37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4360" y="2133720"/>
            <a:ext cx="7991280" cy="38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Intentional Fast Landings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8 - 21% of 39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2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Other Landing Error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7 – 18% of 39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3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Freefall Collision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5 – 13% of 39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anopy handling issues, combined –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5 (38% of total fatalities, 39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0" name="Picture 5" descr="logo_ipc_01_trait copie"/>
          <p:cNvPicPr/>
          <p:nvPr/>
        </p:nvPicPr>
        <p:blipFill>
          <a:blip r:embed="rId1"/>
          <a:stretch/>
        </p:blipFill>
        <p:spPr>
          <a:xfrm>
            <a:off x="7093080" y="549360"/>
            <a:ext cx="1511280" cy="107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10920" y="417600"/>
            <a:ext cx="6181560" cy="9525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5000" spc="-1" strike="noStrike">
                <a:solidFill>
                  <a:srgbClr val="04617b"/>
                </a:solidFill>
                <a:latin typeface="Arial Unicode MS"/>
              </a:rPr>
              <a:t>Significant Figur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68000" y="1916280"/>
            <a:ext cx="800244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00280" indent="-343080" algn="ctr">
              <a:lnSpc>
                <a:spcPct val="80000"/>
              </a:lnSpc>
              <a:spcBef>
                <a:spcPts val="601"/>
              </a:spcBef>
              <a:buClr>
                <a:srgbClr val="e2d700"/>
              </a:buClr>
              <a:buSzPct val="85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OF THE 39 FATALITI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18 (46%) appear to have occurred with the parachutist having at least one good parachute on his/her back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18 (46%) occurred after the successful deployment of the main parachute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2 (5%) might have been avoided by an AAD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29 (74%) appear to have been caused by human error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900" spc="-1" strike="noStrike">
                <a:solidFill>
                  <a:srgbClr val="000000"/>
                </a:solidFill>
                <a:latin typeface="Arial Unicode MS"/>
              </a:rPr>
              <a:t>                </a:t>
            </a:r>
            <a:r>
              <a:rPr b="1" i="1" lang="en-IE" sz="1900" spc="-1" strike="noStrike" u="sng">
                <a:solidFill>
                  <a:srgbClr val="000000"/>
                </a:solidFill>
                <a:uFillTx/>
                <a:latin typeface="Arial Unicode MS"/>
              </a:rPr>
              <a:t>One of the 2016 fatalities was a First Jump Student</a:t>
            </a:r>
            <a:r>
              <a:rPr b="1" i="1" lang="en-IE" sz="19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i="1" lang="en-IE" sz="19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3" name="Picture 4" descr="logo_ipc_01_trait copie"/>
          <p:cNvPicPr/>
          <p:nvPr/>
        </p:nvPicPr>
        <p:blipFill>
          <a:blip r:embed="rId1"/>
          <a:stretch/>
        </p:blipFill>
        <p:spPr>
          <a:xfrm>
            <a:off x="7093080" y="476280"/>
            <a:ext cx="1439640" cy="100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4617b"/>
                </a:solidFill>
                <a:latin typeface="Arial Unicode MS"/>
              </a:rPr>
              <a:t>Some Trends &amp; Issues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71640" y="1990800"/>
            <a:ext cx="7416720" cy="37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ontinuing high percentage of fatalities, 15 (38% of 39) resulting from canopy handling, canopy control, and landing issu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Roughly similar percentage distribution of fatalities between Student/Intermediate/Expert as in previous years .  The category ‘Expert Skydiver’ continues to have the most fatalities, but it has the biggest numbers of jump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AAD and RSL are both now widely used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6" name="Picture 5" descr="logo_ipc_01_trait copie"/>
          <p:cNvPicPr/>
          <p:nvPr/>
        </p:nvPicPr>
        <p:blipFill>
          <a:blip r:embed="rId1"/>
          <a:stretch/>
        </p:blipFill>
        <p:spPr>
          <a:xfrm>
            <a:off x="6877080" y="620640"/>
            <a:ext cx="1440000" cy="10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04617b"/>
                </a:solidFill>
                <a:latin typeface="Arial Unicode MS"/>
              </a:rPr>
              <a:t>Tandem - Solo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539640" y="2276280"/>
            <a:ext cx="8229600" cy="2376360"/>
          </a:xfrm>
          <a:prstGeom prst="rect">
            <a:avLst/>
          </a:prstGeom>
          <a:noFill/>
          <a:ln w="9360">
            <a:solidFill>
              <a:srgbClr val="0f6fc6"/>
            </a:solidFill>
            <a:miter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s 16.1% of </a:t>
            </a:r>
            <a:r>
              <a:rPr b="1" lang="en-IE" sz="2400" spc="-1" strike="noStrike" u="sng">
                <a:solidFill>
                  <a:srgbClr val="000000"/>
                </a:solidFill>
                <a:uFillTx/>
                <a:latin typeface="Arial Unicode MS"/>
              </a:rPr>
              <a:t>all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jumps, Tandem + Sol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6,313,878 Solo jumps – 1,209,732 Tandem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 Fatalities 2; Solo Fatalities 37 (39 total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9" name="Picture 4" descr="logo_ipc_01_trait copie"/>
          <p:cNvPicPr/>
          <p:nvPr/>
        </p:nvPicPr>
        <p:blipFill>
          <a:blip r:embed="rId1"/>
          <a:stretch/>
        </p:blipFill>
        <p:spPr>
          <a:xfrm>
            <a:off x="6877080" y="549360"/>
            <a:ext cx="1440000" cy="9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</cp:lastModifiedBy>
  <dcterms:modified xsi:type="dcterms:W3CDTF">2018-01-21T17:01:29Z</dcterms:modified>
  <cp:revision>118</cp:revision>
  <dc:subject/>
  <dc:title>SAFETY &amp; TRAINING FORUM 25 January 2003</dc:title>
</cp:coreProperties>
</file>