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6033-EB38-46E7-AF6C-4CED82DD8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1672-4E05-4CDF-84AA-D168653D5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3E5D-FF08-448F-8806-DC08C0A5A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D648-2B78-4D4B-9578-3E09A335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F74D-1CBB-4DB4-B9F1-7839E0D01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F094-28D2-4732-B599-80CAE10C1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7F77-4AE4-43E9-BCED-397831025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4EEA-C4DD-4936-A0B9-C5AA0767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2281-2B9A-4191-9E53-209208A9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CF05-3115-43E5-8F12-DD3E8390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545C-6954-458B-8E4A-03972C7C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A23F-7D15-4874-A067-EAEDBB0A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FD68-9893-4520-87CC-46F7A8F3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8056-AB00-4291-9E46-08B443CA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B7C0-0571-429E-BE25-D63A6CFC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AA53A-E4E6-4341-A69D-24F9B419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6A3E-6BBE-4C1F-9D35-501862C2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B5F02-3CFB-4A95-B21E-CABF8B187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9F51-13D9-4D98-910A-22E067451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93EC-237D-4EEE-BD30-18E3C6A4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02AD-7E3F-471A-9258-81FC33D3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625C-B1AB-4771-A165-66DC122F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02A6-6EF9-4ACA-B3C6-7AAA1057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75B2-8CC2-488E-B5CB-A135EFEB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A38A-728F-4D27-931C-0827A4E3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7E2C-8C8A-4E5D-94C9-4CEB3760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C0C5-436D-44F4-ADB6-7283FF83FC58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70AD-21BB-4281-BAC0-4D72F25F524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Calibri"/>
              </a:rPr>
              <a:t>Thanks – and Report Distribu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8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9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8 are requested to do so for 2019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2 countries responded, from a possible approximately 85, a response rate of 49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similar to previous years and has been about this rate for the 32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8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2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364,651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27,205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8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44,651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709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44 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Studen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(9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3 Intermediate     (3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(6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7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Equipment Entanglemen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Spinning main, cutaway &amp; reserve malfunction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AAD Fire &amp; Reserve Malfunct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Jumper spun on back, Reserve handle pulled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Reserve did not deplo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Medical Issue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- 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Entanglemen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27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4 (55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15(3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0 (68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8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6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27% of 44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56,227Solo jumps – 1,527,2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43 (44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2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0-01-20T16:21:36Z</dcterms:modified>
  <cp:revision>139</cp:revision>
  <dc:subject/>
  <dc:title>SAFETY &amp; TRAINING FORUM 25 January 2003</dc:title>
</cp:coreProperties>
</file>