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3400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100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1040" y="750960"/>
            <a:ext cx="500076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F6344BF-C8AC-41D1-B514-7305095D013C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9838F7E-0EAF-42D0-BD76-1A2B72013F0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9A03338-BAE5-4723-A4DC-9E87C21527FD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E783D75-87E5-4157-8C90-58AFE8E16707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0DDA871-F7E4-425F-AF68-C455ECF788C2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FBC7927-9207-41F4-B93E-17A187D4019C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0D67149-2129-48D9-8719-95E79FB0A2C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24DAF61-17BD-430F-B855-E979BFEBC95C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E55F9FB-9E81-4A1E-8110-ECEFE74A07D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9DD5089-0720-415A-AE00-E493DC243B3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8DCA3AE-F7E8-4B4C-908E-243F59BD601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FC72F78-724F-47DF-A82D-E3843F0E8F72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5EA9923-DA0B-41A6-ABF0-2F8C63C2384C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E37A4CB-A7B2-4094-BEA2-8A439F8C1EE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37E5-8A73-4377-A1E5-274A84462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F3BC-7CCB-4A99-BA1C-222137F9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D48E-DBC1-4D28-938C-E5FC040DE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DB6A-90BA-4364-A84D-CF2BE6461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9F49-72C4-400D-9EAF-D653D37A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187F-1289-4891-8BC9-DE17501B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CFB5-0D45-43BD-825D-407CEAAE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CCE2-E443-43A7-B1F6-78F36909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0921-00BE-457F-808B-CCA63AD8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6045-8331-4A1D-9C79-E0F3A201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6A52-7174-42CA-A991-59019A28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E54F-26CF-447F-88F1-4A136283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8699-BA28-4D9B-B866-CAA832060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Semina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/07/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ISE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ENCOURAGE GREATER PARTICIP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7 &amp;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388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 Fitzgerald, Lerner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3.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 0.4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 88.0 dB(A) (-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9 for 50 l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rner engine with moulded bubble to duct the exhaust (hopefully more details to co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5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--no loss of sp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9 &amp;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lo Cond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lp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4.5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3 metr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8.1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50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4.4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3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3 /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lo Cond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lp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3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3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1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50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3.5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1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9.4 /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periment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9280" y="1125360"/>
          <a:ext cx="8569440" cy="4619880"/>
        </p:xfrm>
        <a:graphic>
          <a:graphicData uri="http://schemas.openxmlformats.org/drawingml/2006/table">
            <a:tbl>
              <a:tblPr/>
              <a:tblGrid>
                <a:gridCol w="576360"/>
                <a:gridCol w="1512720"/>
                <a:gridCol w="935280"/>
                <a:gridCol w="936720"/>
                <a:gridCol w="1008000"/>
                <a:gridCol w="1368360"/>
                <a:gridCol w="1150920"/>
                <a:gridCol w="1081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3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front/r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tted sile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50 meter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centr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CIAM r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d exhaust               peri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mm venturi + mini pi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mm venturi +side resonant pi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al moulded exhaust bub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Fu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2 committee was tasked with reporting back to Plenary by 2016 on the viability of having a standard fuel in f2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from Hol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OW TO ENCOURAGE GREATER PARTICIP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entries to World cup events decli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there so few juniors in F2C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13 world c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 juniors in F2D --Only 6 in F2C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Is the event losing its appe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make F2C more appea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removing some of the expense and complication of F2C such as retracting undercarriage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 fuel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a minimum weight simplify construction so widening the appeal of the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need a different class to bridge the gap between F2C and F2F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AM rule –Section 4C, part 1,1.2 b) states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ise limits shall be applied to powered model aircraft, with 96dB(A) at 3 metre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 any category which does not have approval for any other noise r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ny years we have used the latter part of this rule with our deflector shields and restricted exhaust outlet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56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The Alternative Plan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rom 01/01/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66"/>
                </a:solidFill>
                <a:uFillTx/>
                <a:latin typeface="Arial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) The motor shall be naturally aspirated via a single round venturi with a maximum diameter of 3 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venturi diameter shall be checked with a simple no-go plug gauge 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. 3,02 mm * 1,0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) Any interconnecting chamber between the air intake and the induction port of the motor shall have a maximum volume of 1,25 cm3. No leakage is allowed between the venturi and the crankc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) There shall be no supplementary air induction except for sub piston induction to a maximum height of 0.6 mm at the exhaust 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THE CLEAR INTENT OF THIS IS TO ALLOW THE CONTINUED USE OF EXISTING MODELS AND ENG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imental period – 2015 and 2016 contest season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tests at selected worldwide events,  in races or preferably  demonstration fligh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the noise levels and how achie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surements  taken at the center of the circle (pilot shoulder) and at 50 meters from the center of the circle,(these  then used to calculate the noise level at 3 meter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t is not mandatory to use a 3mm venturi in demonstration flights (i.e. outside of competition fligh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t is the responsibility of competitors to initiate the various experi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 essential part  that the various results are widely communicated -to enable the work to progress rapidly (via F2 working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te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2 Committee shall  present a proposal to 2016/ 2017 Plenary of the appropriate noise limit for F2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to be considered are site locations, the restricted operating area, height and duration of flights.  Plus any other factors which mitigate the spread of no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greed F2C noise limit will be circulated widely to assist the experimental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2 Committee shall consider if it believes that further progress to the agreed F2C limit can be achieved by any of the experimentation route(s) so far demonstr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f the answer is Y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the F2 Committee will present appropriate rules to the 2018 Plenary for implementation from 1st January 20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f the answer is NO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F2 Committee will present silencer based rules to the 2018 Plenary for implementation from 1st January 20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2 Committee shall ensure that any such silencer solution rules are only drafted after open consultation with competitors and engine manufacturers on the preferred detail of that silencer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1 &amp;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olodymyr Fulitka ZALP eng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d exhaust period to135 degr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down by 4 dB to 93 dB at pilot in cir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0.2 se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UGOV &amp; SOSNOVSKI  Kiev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4dB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18.3 – 18.9 (+1.3 – 1.8) for 42-44 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3 &amp;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b Metkemeijer PROF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ine open exha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 92.2 dB (A) (-2.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8.7 (+1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87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fi engine with side resonant mini p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85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ston induction 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0 dB(A) (-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 18.4 (+1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5 &amp;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ugov Engine engine with side resonant mini pi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8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2.1 dB(A) (-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1 (+1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 Fitzgerald, Lerner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exha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4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3.0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6.9 for 33 l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30T13:40:36Z</dcterms:created>
  <dc:creator>Derek Heaton</dc:creator>
  <dc:description/>
  <dc:language>en-US</dc:language>
  <cp:lastModifiedBy>Derek Heaton</cp:lastModifiedBy>
  <dcterms:modified xsi:type="dcterms:W3CDTF">2014-09-30T16:15:13Z</dcterms:modified>
  <cp:revision>26</cp:revision>
  <dc:subject/>
  <dc:title>F2C Seminar 13/07/2014</dc:title>
</cp:coreProperties>
</file>