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14AC-A6CD-4F22-8738-9985335E1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1DF6-F9E0-43A4-B9A2-321AC01A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F620-4F87-4A6F-9F51-B494440C2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F5B2-F1E0-4C96-A7A3-5E3F7F9F8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D5B2-D694-465A-A08B-F0D3B609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CD63-5162-4D69-B186-D809CA31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EB0D-29C8-47F9-9A76-065F926F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26FE-CEE0-4387-99DB-D2A8198D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48E6-C42E-48F4-8F68-164D533D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DAE7-E27F-4DE1-A23C-70A10B07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BEDD-E3E1-4A88-A00E-B65BD46A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E393-883D-45C3-A5F9-9FF31D51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16B2-5384-497E-B035-BA6BA2D9FA8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0"/>
            <a:ext cx="9180000" cy="6884640"/>
            <a:chOff x="0" y="0"/>
            <a:chExt cx="9180000" cy="68846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9180000" cy="688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303200" y="112680"/>
              <a:ext cx="6527160" cy="672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77800" y="330120"/>
            <a:ext cx="6191280" cy="61945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8480" y="2349360"/>
            <a:ext cx="56818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Thank you for your attention</a:t>
            </a:r>
            <a:br>
              <a:rPr sz="2500"/>
            </a:br>
            <a:br>
              <a:rPr sz="2500"/>
            </a:b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See you in September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fr-FR" sz="2500" spc="-1" strike="noStrike">
                <a:solidFill>
                  <a:srgbClr val="ffffff"/>
                </a:solidFill>
                <a:latin typeface="Arial"/>
              </a:rPr>
              <a:t>over Geneva</a:t>
            </a: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” !</a:t>
            </a:r>
            <a:br>
              <a:rPr sz="2500"/>
            </a:br>
            <a:br>
              <a:rPr sz="30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0"/>
            <a:ext cx="9180000" cy="6884640"/>
            <a:chOff x="0" y="0"/>
            <a:chExt cx="9180000" cy="6884640"/>
          </a:xfrm>
        </p:grpSpPr>
        <p:sp>
          <p:nvSpPr>
            <p:cNvPr id="135" name=""/>
            <p:cNvSpPr/>
            <p:nvPr/>
          </p:nvSpPr>
          <p:spPr>
            <a:xfrm>
              <a:off x="0" y="0"/>
              <a:ext cx="9180000" cy="688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1303200" y="112680"/>
              <a:ext cx="6527160" cy="672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76360" y="836640"/>
            <a:ext cx="5830920" cy="58341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2563920"/>
            <a:ext cx="5681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From Friday September 4th 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Saturday September 12th, 2009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54120" y="3789360"/>
            <a:ext cx="5681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Centre Sportif de Vessy – City of Genev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4508640"/>
            <a:ext cx="568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Hôtel Ramada Encore La Prail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1520" y="6329520"/>
            <a:ext cx="22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28480" y="260280"/>
          <a:ext cx="8291520" cy="586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260280"/>
                    <a:ext cx="8291520" cy="58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2411280" y="4437000"/>
            <a:ext cx="936720" cy="936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00720" y="3573360"/>
            <a:ext cx="936720" cy="936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58920" y="4005360"/>
            <a:ext cx="1152360" cy="6476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7092720" y="2852640"/>
            <a:ext cx="1006200" cy="792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3357720"/>
            <a:ext cx="1008000" cy="64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Hôtel Ramada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La Prai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28000" y="2205000"/>
            <a:ext cx="1008000" cy="64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Centre sportif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de Vess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4920" y="189000"/>
            <a:ext cx="9074160" cy="6472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476360" y="836640"/>
            <a:ext cx="5830920" cy="5832360"/>
            <a:chOff x="1476360" y="836640"/>
            <a:chExt cx="5830920" cy="5832360"/>
          </a:xfrm>
        </p:grpSpPr>
        <p:sp>
          <p:nvSpPr>
            <p:cNvPr id="73" name=""/>
            <p:cNvSpPr/>
            <p:nvPr/>
          </p:nvSpPr>
          <p:spPr>
            <a:xfrm>
              <a:off x="1476360" y="836640"/>
              <a:ext cx="5830920" cy="583236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46200" y="2421720"/>
              <a:ext cx="5681880" cy="273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995480" y="29019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City Welcome Party    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       7:30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56000" y="1557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0000"/>
                </a:solidFill>
                <a:latin typeface="Arial"/>
              </a:rPr>
              <a:t>Event Master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11280" y="213372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Pilot registration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9am-4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11280" y="25099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General Briefing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p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46200" y="38606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Inflation balloons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p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40080" y="34909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Preflight Briefing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0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49440" y="424332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Launch Window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0pm on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67080" y="4529160"/>
            <a:ext cx="41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(until Wednesday 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9.09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11:59p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3600" y="50166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Awards Banquet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2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 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6381720"/>
            <a:ext cx="236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476360" y="779400"/>
            <a:ext cx="5830920" cy="5833800"/>
            <a:chOff x="1476360" y="779400"/>
            <a:chExt cx="5830920" cy="5833800"/>
          </a:xfrm>
        </p:grpSpPr>
        <p:sp>
          <p:nvSpPr>
            <p:cNvPr id="92" name=""/>
            <p:cNvSpPr/>
            <p:nvPr/>
          </p:nvSpPr>
          <p:spPr>
            <a:xfrm>
              <a:off x="1476360" y="779400"/>
              <a:ext cx="5830920" cy="58338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46200" y="2365200"/>
              <a:ext cx="5681880" cy="27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Registred NAC’s acceptance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USA               3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France           2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Finland           1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Belgium          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Switzerland    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Germany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Great-Britain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Austria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4000" y="6338880"/>
            <a:ext cx="210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477800" y="835200"/>
            <a:ext cx="5830920" cy="5833800"/>
            <a:chOff x="1477800" y="835200"/>
            <a:chExt cx="5830920" cy="5833800"/>
          </a:xfrm>
        </p:grpSpPr>
        <p:sp>
          <p:nvSpPr>
            <p:cNvPr id="102" name=""/>
            <p:cNvSpPr/>
            <p:nvPr/>
          </p:nvSpPr>
          <p:spPr>
            <a:xfrm>
              <a:off x="1477800" y="835200"/>
              <a:ext cx="5830920" cy="5833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47640" y="2781360"/>
              <a:ext cx="5681880" cy="17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Deadline for Pilots registration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ffffff"/>
                  </a:solidFill>
                  <a:latin typeface="Arial"/>
                </a:rPr>
                <a:t>Thursday April 30th, 2009</a:t>
              </a:r>
              <a:r>
                <a:rPr b="1" lang="fr-FR" sz="3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br>
                <a:rPr sz="3000"/>
              </a:br>
              <a:br>
                <a:rPr sz="3000"/>
              </a:b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Including payment of the entry f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6343560"/>
            <a:ext cx="214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77800" y="835200"/>
            <a:ext cx="5830920" cy="5833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7640" y="2708280"/>
            <a:ext cx="56818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Competition Organisation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Mr. Markus Hagge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  </a:t>
            </a: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Event Director</a:t>
            </a:r>
            <a:br>
              <a:rPr sz="3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76200" y="6269040"/>
            <a:ext cx="203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477800" y="835200"/>
            <a:ext cx="5830920" cy="5833800"/>
            <a:chOff x="1477800" y="835200"/>
            <a:chExt cx="5830920" cy="5833800"/>
          </a:xfrm>
        </p:grpSpPr>
        <p:sp>
          <p:nvSpPr>
            <p:cNvPr id="121" name=""/>
            <p:cNvSpPr/>
            <p:nvPr/>
          </p:nvSpPr>
          <p:spPr>
            <a:xfrm>
              <a:off x="1477800" y="835200"/>
              <a:ext cx="5830920" cy="58338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47640" y="1366920"/>
              <a:ext cx="5681880" cy="41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br>
                <a:rPr sz="12000"/>
              </a:br>
              <a:endParaRPr b="0" lang="en-US" sz="30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38040" y="6270480"/>
            <a:ext cx="22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0:43:07Z</dcterms:created>
  <dc:creator>Militza Bodi</dc:creator>
  <dc:description/>
  <dc:language>en-US</dc:language>
  <cp:lastModifiedBy>Alex Nagorski</cp:lastModifiedBy>
  <dcterms:modified xsi:type="dcterms:W3CDTF">2009-04-25T03:20:05Z</dcterms:modified>
  <cp:revision>41</cp:revision>
  <dc:subject/>
  <dc:title>Diapositive 1</dc:title>
</cp:coreProperties>
</file>