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907588" cy="6858000"/>
  <p:notesSz cx="9932988" cy="6792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932400" cy="679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562716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3125520" y="509400"/>
            <a:ext cx="3679560" cy="2547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Eurostile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1324080" y="3227040"/>
            <a:ext cx="7283520" cy="30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-360" y="645480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5627160" y="645480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5880F-64DA-4D0E-9411-A459BB85D0E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7"/>
          <p:cNvSpPr/>
          <p:nvPr/>
        </p:nvSpPr>
        <p:spPr>
          <a:xfrm>
            <a:off x="5627520" y="645480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A6B61-CC65-4D9C-A648-6323A3A4109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3125880" y="509760"/>
            <a:ext cx="3679560" cy="254772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1324080" y="3227040"/>
            <a:ext cx="7283520" cy="30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gfdngfdng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7"/>
          <p:cNvSpPr/>
          <p:nvPr/>
        </p:nvSpPr>
        <p:spPr>
          <a:xfrm>
            <a:off x="5627520" y="645480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C109D-F3D7-408E-A22D-4803F8CF72C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3125880" y="509760"/>
            <a:ext cx="3679560" cy="254772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1324080" y="3227040"/>
            <a:ext cx="7283520" cy="3057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nproper disclosure of internal working documents &amp; discus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29F86-8C62-40A8-A251-43AA9646A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72520" y="1412640"/>
            <a:ext cx="93726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72520" y="3840480"/>
            <a:ext cx="93726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CBE84-842D-4D94-A58F-E2B2E758A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72520" y="141264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75280" y="141264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72520" y="384048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075280" y="384048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D2624-6EB5-4FF8-B30C-7267AB423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72520" y="1412640"/>
            <a:ext cx="301788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441600" y="1412640"/>
            <a:ext cx="301788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610680" y="1412640"/>
            <a:ext cx="301788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272520" y="3840480"/>
            <a:ext cx="301788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441600" y="3840480"/>
            <a:ext cx="301788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610680" y="3840480"/>
            <a:ext cx="301788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5923D-5992-4822-AA1D-0AD66498C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272520" y="1412640"/>
            <a:ext cx="9372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26458-12BF-4D74-BBC2-54F2E9290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72520" y="1412640"/>
            <a:ext cx="9372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0A404-0046-4A42-8AA1-653DCC78E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72520" y="1412640"/>
            <a:ext cx="4573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75280" y="1412640"/>
            <a:ext cx="4573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4EF98-8CB5-4648-A3A5-172359FE7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844B4-AE11-4561-A981-8490BFA72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266760" y="228240"/>
            <a:ext cx="94867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9CF43-D1EA-42A7-A796-47F9089EB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72520" y="141264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75280" y="1412640"/>
            <a:ext cx="4573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72520" y="384048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24EC4-B513-46B1-8B72-D039CBF92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72520" y="1412640"/>
            <a:ext cx="4573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75280" y="141264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75280" y="384048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61E39-9813-49C8-B6C5-57C0F06B4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72520" y="141264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75280" y="141264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72520" y="3840480"/>
            <a:ext cx="93726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08640-9CD4-4225-A652-058DE9C38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66760" y="228240"/>
            <a:ext cx="94867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Eurostil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72520" y="1412640"/>
            <a:ext cx="9372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1" marL="343080" indent="-343080">
              <a:spcBef>
                <a:spcPts val="799"/>
              </a:spcBef>
              <a:buClr>
                <a:srgbClr val="003366"/>
              </a:buClr>
              <a:buSzPct val="70000"/>
              <a:buFont typeface="Wingdings 2" charset="2"/>
              <a:buChar char="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Eurosti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Eurostil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Eurostil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Eurostil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Eurostil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320" y="6552720"/>
            <a:ext cx="2063520" cy="22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EB248-19AD-4905-A6BC-84528FC58440}" type="datetime">
              <a:rPr b="1" lang="fr-FR" sz="1200" spc="-1" strike="noStrike">
                <a:solidFill>
                  <a:srgbClr val="000000"/>
                </a:solidFill>
                <a:latin typeface="Arial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772040" y="6552720"/>
            <a:ext cx="2063880" cy="30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0003E-017E-4A20-9849-DA17E1B6550E}" type="slidenum">
              <a:rPr b="1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2"/>
          <p:cNvSpPr/>
          <p:nvPr/>
        </p:nvSpPr>
        <p:spPr>
          <a:xfrm>
            <a:off x="152280" y="6553080"/>
            <a:ext cx="8458200" cy="0"/>
          </a:xfrm>
          <a:prstGeom prst="line">
            <a:avLst/>
          </a:prstGeom>
          <a:ln w="9360">
            <a:solidFill>
              <a:srgbClr val="a28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13"/>
          <p:cNvSpPr/>
          <p:nvPr/>
        </p:nvSpPr>
        <p:spPr>
          <a:xfrm>
            <a:off x="9372600" y="6553080"/>
            <a:ext cx="380880" cy="0"/>
          </a:xfrm>
          <a:prstGeom prst="line">
            <a:avLst/>
          </a:prstGeom>
          <a:ln w="9360">
            <a:solidFill>
              <a:srgbClr val="a28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14" descr="logo_fai_02_cmyk copie"/>
          <p:cNvPicPr/>
          <p:nvPr/>
        </p:nvPicPr>
        <p:blipFill>
          <a:blip r:embed="rId3"/>
          <a:stretch/>
        </p:blipFill>
        <p:spPr>
          <a:xfrm>
            <a:off x="8763120" y="5865840"/>
            <a:ext cx="495360" cy="865080"/>
          </a:xfrm>
          <a:prstGeom prst="rect">
            <a:avLst/>
          </a:prstGeom>
          <a:ln w="0">
            <a:noFill/>
          </a:ln>
        </p:spPr>
      </p:pic>
      <p:sp>
        <p:nvSpPr>
          <p:cNvPr id="8" name="Espace réservé de la date 3"/>
          <p:cNvSpPr/>
          <p:nvPr/>
        </p:nvSpPr>
        <p:spPr>
          <a:xfrm>
            <a:off x="0" y="6629400"/>
            <a:ext cx="2063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JK</a:t>
            </a:r>
            <a:fld id="{DCDC853B-0598-4FF5-8DB0-7BFF71F8FE5F}" type="datetime">
              <a:rPr b="1" lang="fr-FR" sz="1200" spc="-1" strike="noStrike">
                <a:solidFill>
                  <a:srgbClr val="000000"/>
                </a:solidFill>
                <a:latin typeface="Arial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logo_fai_02_cmyk copie"/>
          <p:cNvPicPr/>
          <p:nvPr/>
        </p:nvPicPr>
        <p:blipFill>
          <a:blip r:embed="rId2"/>
          <a:stretch/>
        </p:blipFill>
        <p:spPr>
          <a:xfrm>
            <a:off x="992160" y="333360"/>
            <a:ext cx="1341360" cy="215892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72520" y="4878000"/>
            <a:ext cx="9372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Eurostile"/>
              </a:rPr>
              <a:t>CIMP </a:t>
            </a:r>
            <a:br>
              <a:rPr sz="4400"/>
            </a:br>
            <a:r>
              <a:rPr b="0" lang="fr-FR" sz="2000" spc="-1" strike="noStrike">
                <a:solidFill>
                  <a:srgbClr val="000000"/>
                </a:solidFill>
                <a:latin typeface="Eurostile"/>
              </a:rPr>
              <a:t>COMMISSION INTERNATIONALE MÉDICO-PHYSIOLOGIQUE</a:t>
            </a:r>
            <a:r>
              <a:rPr b="0" lang="fr-FR" sz="4400" spc="-1" strike="noStrike">
                <a:solidFill>
                  <a:srgbClr val="000000"/>
                </a:solidFill>
                <a:latin typeface="Eurostile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pic>
        <p:nvPicPr>
          <p:cNvPr id="54" name="Picture 4" descr="logo_cimp_01_cmyk (300-15)"/>
          <p:cNvPicPr/>
          <p:nvPr/>
        </p:nvPicPr>
        <p:blipFill>
          <a:blip r:embed="rId3"/>
          <a:stretch/>
        </p:blipFill>
        <p:spPr>
          <a:xfrm>
            <a:off x="3152880" y="2421000"/>
            <a:ext cx="3132000" cy="192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72520" y="259920"/>
            <a:ext cx="943956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6000" spc="-1" strike="noStrike" u="sng">
                <a:solidFill>
                  <a:srgbClr val="000000"/>
                </a:solidFill>
                <a:uFillTx/>
                <a:latin typeface="Eurostile"/>
              </a:rPr>
              <a:t>FAI   -   CIMP</a:t>
            </a:r>
            <a:endParaRPr b="0" lang="en-US" sz="60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2520" y="1412640"/>
            <a:ext cx="9372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3200" spc="-1" strike="noStrike">
                <a:solidFill>
                  <a:srgbClr val="000000"/>
                </a:solidFill>
                <a:latin typeface="Eurostile"/>
              </a:rPr>
              <a:t>Status 2014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3200" spc="-1" strike="noStrike">
                <a:solidFill>
                  <a:srgbClr val="000000"/>
                </a:solidFill>
                <a:latin typeface="Eurostile"/>
              </a:rPr>
              <a:t>-Flexibility in Oxygen Rules </a:t>
            </a: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(EASA)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3200" spc="-1" strike="noStrike">
                <a:solidFill>
                  <a:srgbClr val="000000"/>
                </a:solidFill>
                <a:latin typeface="Eurostile"/>
              </a:rPr>
              <a:t>-EAS: “</a:t>
            </a: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Drivers Licence“</a:t>
            </a:r>
            <a:r>
              <a:rPr b="1" lang="de-DE" sz="3200" spc="-1" strike="noStrike">
                <a:solidFill>
                  <a:srgbClr val="000000"/>
                </a:solidFill>
                <a:latin typeface="Eurostile"/>
              </a:rPr>
              <a:t> Pilot Medical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3200" spc="-1" strike="noStrike">
                <a:solidFill>
                  <a:srgbClr val="000000"/>
                </a:solidFill>
                <a:latin typeface="Eurostile"/>
              </a:rPr>
              <a:t>-Current Issues to decide on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Eurostile"/>
              </a:rPr>
              <a:t>WADA request paper: </a:t>
            </a:r>
            <a:endParaRPr b="0" lang="en-US" sz="24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Eurostile"/>
              </a:rPr>
              <a:t>Physiological Stresses in Air-Sports</a:t>
            </a:r>
            <a:r>
              <a:rPr b="0" lang="de-DE" sz="2400" spc="-1" strike="noStrike">
                <a:solidFill>
                  <a:srgbClr val="000000"/>
                </a:solidFill>
                <a:latin typeface="Eurostile"/>
              </a:rPr>
              <a:t>, various Disciplines</a:t>
            </a:r>
            <a:endParaRPr b="0" lang="en-US" sz="24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Eurostile"/>
              </a:rPr>
              <a:t>Juergen K Knueppel,  MD</a:t>
            </a:r>
            <a:endParaRPr b="0" lang="en-US" sz="2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Eurostile"/>
              </a:rPr>
              <a:t>President FAI CIMP</a:t>
            </a:r>
            <a:endParaRPr b="0" lang="en-US" sz="2000" spc="-1" strike="noStrike">
              <a:solidFill>
                <a:srgbClr val="000000"/>
              </a:solidFill>
              <a:latin typeface="Eurosti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Espace réservé du numéro de diapositive 5"/>
          <p:cNvSpPr/>
          <p:nvPr/>
        </p:nvSpPr>
        <p:spPr>
          <a:xfrm>
            <a:off x="7772400" y="6553080"/>
            <a:ext cx="206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D5ED1-426D-4923-9069-88CF118D9F3D}" type="slidenum">
              <a:rPr b="1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99800" y="259920"/>
            <a:ext cx="955332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Eurostile"/>
              </a:rPr>
              <a:t>Practical recommendation</a:t>
            </a:r>
            <a:r>
              <a:rPr b="1" lang="en-US" sz="2000" spc="-1" strike="noStrike">
                <a:solidFill>
                  <a:srgbClr val="000000"/>
                </a:solidFill>
                <a:latin typeface="Eurostile"/>
              </a:rPr>
              <a:t> to Federations FAI Anti-Doping Work-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Eurostile"/>
              </a:rPr>
              <a:t> </a:t>
            </a:r>
            <a:r>
              <a:rPr b="1" lang="en-US" sz="2800" spc="-1" strike="noStrike">
                <a:solidFill>
                  <a:srgbClr val="e60c7e"/>
                </a:solidFill>
                <a:latin typeface="Eurostile"/>
              </a:rPr>
              <a:t>Where are we? – What to improve?</a:t>
            </a:r>
            <a:endParaRPr b="0" lang="en-US" sz="28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59" name="Rectangle 2"/>
          <p:cNvSpPr/>
          <p:nvPr/>
        </p:nvSpPr>
        <p:spPr>
          <a:xfrm>
            <a:off x="152280" y="1065240"/>
            <a:ext cx="9753840" cy="9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272880" y="1413000"/>
            <a:ext cx="936000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Eurostile"/>
                <a:ea typeface="MS Gothic"/>
              </a:rPr>
              <a:t>Federations require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3366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Anti Doping Manager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3366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Federation Board Member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3366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Contact to WADA, Sport Accord, NADO 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Eurostile"/>
                <a:ea typeface="MS Gothic"/>
              </a:rPr>
              <a:t>(National Anti-Doping Organization)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    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&gt; </a:t>
            </a:r>
            <a:r>
              <a:rPr b="0" i="1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how rules &amp; violations get handled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 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3366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Legal Advisor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3366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Medical Advisor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3366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e60c7e"/>
                </a:solidFill>
                <a:latin typeface="Eurostile"/>
                <a:ea typeface="MS Gothic"/>
              </a:rPr>
              <a:t>Proactive Training, Ambassadors</a:t>
            </a:r>
            <a:r>
              <a:rPr b="0" lang="en-GB" sz="2200" spc="-1" strike="noStrike">
                <a:solidFill>
                  <a:srgbClr val="e60c7e"/>
                </a:solidFill>
                <a:latin typeface="Eurostile"/>
                <a:ea typeface="MS Gothic"/>
              </a:rPr>
              <a:t> </a:t>
            </a:r>
            <a:r>
              <a:rPr b="0" lang="en-GB" sz="2200" spc="-1" strike="noStrike">
                <a:solidFill>
                  <a:srgbClr val="e60c7e"/>
                </a:solidFill>
                <a:latin typeface="Eurostile"/>
                <a:ea typeface="MS Gothic"/>
              </a:rPr>
              <a:t>	</a:t>
            </a:r>
            <a:r>
              <a:rPr b="0" lang="en-GB" sz="2200" spc="-1" strike="noStrike">
                <a:solidFill>
                  <a:srgbClr val="e60c7e"/>
                </a:solidFill>
                <a:latin typeface="Eurostile"/>
                <a:ea typeface="MS Gothic"/>
              </a:rPr>
              <a:t>	</a:t>
            </a:r>
            <a:r>
              <a:rPr b="0" lang="en-GB" sz="2200" spc="-1" strike="noStrike">
                <a:solidFill>
                  <a:srgbClr val="e60c7e"/>
                </a:solidFill>
                <a:latin typeface="Eurostile"/>
                <a:ea typeface="MS Gothic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3366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e60c7e"/>
                </a:solidFill>
                <a:latin typeface="Eurostile"/>
                <a:ea typeface="MS Gothic"/>
              </a:rPr>
              <a:t>Anti Doping-PR, Presentations </a:t>
            </a:r>
            <a:r>
              <a:rPr b="0" lang="en-GB" sz="2200" spc="-1" strike="noStrike">
                <a:solidFill>
                  <a:srgbClr val="e60c7e"/>
                </a:solidFill>
                <a:latin typeface="Eurostile"/>
                <a:ea typeface="MS Gothic"/>
              </a:rPr>
              <a:t> </a:t>
            </a:r>
            <a:r>
              <a:rPr b="0" lang="en-GB" sz="2200" spc="-1" strike="noStrike">
                <a:solidFill>
                  <a:srgbClr val="e60c7e"/>
                </a:solidFill>
                <a:latin typeface="Eurostile"/>
                <a:ea typeface="MS Gothic"/>
              </a:rPr>
              <a:t>	</a:t>
            </a:r>
            <a:r>
              <a:rPr b="0" lang="en-GB" sz="2200" spc="-1" strike="noStrike">
                <a:solidFill>
                  <a:srgbClr val="e60c7e"/>
                </a:solidFill>
                <a:latin typeface="Eurostile"/>
                <a:ea typeface="MS Gothic"/>
              </a:rPr>
              <a:t>&gt; </a:t>
            </a:r>
            <a:r>
              <a:rPr b="1" lang="en-GB" sz="2200" spc="-1" strike="noStrike">
                <a:solidFill>
                  <a:srgbClr val="e60c7e"/>
                </a:solidFill>
                <a:latin typeface="Eurostile"/>
                <a:ea typeface="MS Gothic"/>
              </a:rPr>
              <a:t>Competent Persons 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3366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Immediate Contact to FAI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(when a “</a:t>
            </a:r>
            <a:r>
              <a:rPr b="1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Case”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 is opened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72520" y="260280"/>
            <a:ext cx="94870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Eurostile"/>
              </a:rPr>
              <a:t>Flight Stresses in Sports-Aviation  </a:t>
            </a:r>
            <a:r>
              <a:rPr b="0" lang="en-GB" sz="1400" spc="-1" strike="noStrike">
                <a:solidFill>
                  <a:srgbClr val="000000"/>
                </a:solidFill>
                <a:latin typeface="Eurostile"/>
              </a:rPr>
              <a:t>(FAICIMP first draft opinion 052014)</a:t>
            </a:r>
            <a:endParaRPr b="0" lang="en-US" sz="1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-360" y="907560"/>
            <a:ext cx="9906120" cy="496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0" lang="en-GB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1 =min / 5= max     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ACRO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Modeli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Ballon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GA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Glidng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ParaGl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MicroL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ParChu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Heli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i="1" lang="de-DE" sz="1400" spc="-1" strike="noStrike" u="sng">
                <a:solidFill>
                  <a:srgbClr val="000000"/>
                </a:solidFill>
                <a:uFillTx/>
                <a:latin typeface="Eurostile"/>
              </a:rPr>
              <a:t>"Stresses"</a:t>
            </a:r>
            <a:r>
              <a:rPr b="0" i="1" lang="de-DE" sz="1000" spc="-1" strike="noStrike" u="sng">
                <a:solidFill>
                  <a:srgbClr val="000000"/>
                </a:solidFill>
                <a:uFillTx/>
                <a:latin typeface="Eurostile"/>
              </a:rPr>
              <a:t>	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1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MentalStrain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NutritionStress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1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ChronoBioStrain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OrientationalStr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PrecisionCoord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6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MuscleForces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1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7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G-Forces 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1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1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8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CardioStress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1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9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ExtremeTemp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10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VisualPerform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11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HypobaricCond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1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12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Hypoxia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1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1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272520" y="691920"/>
            <a:ext cx="963324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3200" spc="-1" strike="noStrike">
                <a:solidFill>
                  <a:srgbClr val="000000"/>
                </a:solidFill>
                <a:latin typeface="Eurostile"/>
              </a:rPr>
              <a:t>Thank You</a:t>
            </a: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 for your attention !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Comments ?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Questions ?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Suggestions ?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Solutions ?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- Approach CIMP for INFO exchange -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3224160" y="1268280"/>
            <a:ext cx="5400720" cy="403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9T18:51:40Z</dcterms:created>
  <dc:creator>Stephane Desprez</dc:creator>
  <dc:description/>
  <dc:language>en-US</dc:language>
  <cp:lastModifiedBy>Fustis</cp:lastModifiedBy>
  <cp:lastPrinted>2011-05-01T20:14:46Z</cp:lastPrinted>
  <dcterms:modified xsi:type="dcterms:W3CDTF">2014-05-08T10:53:51Z</dcterms:modified>
  <cp:revision>585</cp:revision>
  <dc:subject/>
  <dc:title>Présentation PowerPoint</dc:title>
</cp:coreProperties>
</file>