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1B09-FAE3-4ACF-8D2B-A7B98A45D6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6F57-796F-49B6-8450-D9A0659B58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86B-238D-42BA-A973-360F36E2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DA9E-7F9F-407A-B65D-B2C7EE0E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B27-055C-4C42-A7BC-57410EAC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9BD-0934-4020-91AF-5A07236D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EA57-A951-42DD-82BD-782991A0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15B6-A133-4693-9ACA-7D1671C2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89CA-3E7F-4F5E-B528-A7F57763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308-4F4B-4426-AD79-480F312B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E6FD-6600-4CA9-91AE-89500A67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595-E64B-4D1C-9100-4E90EC28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2AEB-8AB1-4249-9EA9-AEC385BD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7569-AD18-49EC-85DA-8CA54D0A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ADD2-030E-41EE-9FAE-D287C3342B94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73BA-7059-4260-A40E-1C5EEC2B5A16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9BFD99AB-8C6A-4185-82EB-45DA632EC15E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2421000"/>
            <a:ext cx="9372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irst Draft Opinion 05/2014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1:15:45Z</dcterms:modified>
  <cp:revision>586</cp:revision>
  <dc:subject/>
  <dc:title>Présentation PowerPoint</dc:title>
</cp:coreProperties>
</file>